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C90-5F0C-48CF-8DDD-25002049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DA5-1C3C-4D32-B9AF-19C55421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E26-9AF5-413B-B901-37A2A030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D13-B353-486C-83E4-D194A877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300-4B1D-42C8-95E7-AB2C5157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3F5-16BE-4079-A6A4-7B91A7F7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2F5-92D3-402E-BC8F-00258A0D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ED0-DE90-4247-A852-FF5299A5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760-2723-4537-B07B-EFB8186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F8F-2F4F-4E56-8966-106E124D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854-2B03-4BC8-A5D1-F62BBF0B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137-7FB2-47F4-819E-E49B5092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AF02-42F8-4F77-9F90-DC3403A90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MERE D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Brogan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9:52:12Z</dcterms:created>
  <dc:creator>USD376</dc:creator>
  <dc:description/>
  <dc:language>en-US</dc:language>
  <cp:lastModifiedBy>USD376</cp:lastModifiedBy>
  <dcterms:modified xsi:type="dcterms:W3CDTF">2010-01-06T19:58:28Z</dcterms:modified>
  <cp:revision>2</cp:revision>
  <dc:subject/>
  <dc:title>C’MERE DEER</dc:title>
</cp:coreProperties>
</file>